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B524E-BF2D-4F9F-900D-D086FF5112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8E696-605E-4784-8131-C3C58494B9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5CDDF-41CC-4870-8A21-5540CD3A10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E1847-2123-4ED9-8AF8-5D8AED21F8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B9F8A-B654-4F50-B7A7-69ED295FA8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EE635-E07D-44F9-9A9D-1392623EEC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B562A-6A97-4067-8292-FDD6B1DE03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6F4E5-35C4-4E0A-A255-8413749E45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59132-8AF3-4EE5-920D-322B52A594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7CD9D1-CC7D-4BD3-A563-07C2529DB3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A6D5A-4C41-465C-9310-F24D1DC4CB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3F43D-CE64-4986-9E10-5DA9B1613B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45893-681C-45E2-A5E9-9C58183B49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C1D9A-9BD4-42B7-B65C-8988E6636F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24F9D1-B1E0-474D-A204-8ED90FA41D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7F34D-4F1A-42FB-8025-563A2CF1C4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3CACB-601A-4C74-8B4E-F97EB0C116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168C8-ADAE-47A7-A980-C0180D2967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5435C-1107-4D6F-9810-1B2DBAE011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52F9C-3604-48F6-AE87-892DB9C353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FC8D4-3D3F-4C27-8CE5-E96C5DAE48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74827-6A70-4348-9296-7BE1E08BFD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66AC2-9A09-4A15-A91D-DB6F8D2C4B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2F2B9-29DD-4EF4-B0E8-C9AB063265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34B053A-715E-4DB2-A18C-6A37C445257A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D0F99E3-98D9-4AAD-B1CE-7E4B0CB41B0F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E02507D-274D-4B0A-AEEE-DBFE47F9334F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E070993-998E-4DA9-BB0E-F7682D01A80A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hyperlink" Target="http://www-class.unl.edu/psycrs/statpage/comp.html" TargetMode="External"/><Relationship Id="rId3" Type="http://schemas.openxmlformats.org/officeDocument/2006/relationships/hyperlink" Target="http://www-class.unl.edu/psycrs/statpage/comp.html" TargetMode="External"/><Relationship Id="rId4" Type="http://schemas.openxmlformats.org/officeDocument/2006/relationships/hyperlink" Target="http://www-class.unl.edu/psycrs/statpage/comp.html" TargetMode="External"/><Relationship Id="rId5" Type="http://schemas.openxmlformats.org/officeDocument/2006/relationships/hyperlink" Target="http://www-class.unl.edu/psycrs/statpage/comp.html" TargetMode="External"/><Relationship Id="rId6" Type="http://schemas.openxmlformats.org/officeDocument/2006/relationships/hyperlink" Target="http://www-class.unl.edu/psycrs/statpage/comp.html" TargetMode="External"/><Relationship Id="rId7" Type="http://schemas.openxmlformats.org/officeDocument/2006/relationships/hyperlink" Target="http://www-class.unl.edu/psycrs/statpage/comp.html" TargetMode="External"/><Relationship Id="rId8" Type="http://schemas.openxmlformats.org/officeDocument/2006/relationships/hyperlink" Target="http://www-class.unl.edu/psycrs/statpage/comp.html" TargetMode="External"/><Relationship Id="rId9" Type="http://schemas.openxmlformats.org/officeDocument/2006/relationships/hyperlink" Target="http://www-class.unl.edu/psycrs/statpage/comp.html" TargetMode="External"/><Relationship Id="rId10" Type="http://schemas.openxmlformats.org/officeDocument/2006/relationships/hyperlink" Target="http://www-class.unl.edu/psycrs/statpage/comp.html" TargetMode="External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hyperlink" Target="http://independent.academia.edu/JohnFHall/Talks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3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38080" y="160020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1600200"/>
          <a:ext cx="77724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7724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9480" y="1600200"/>
          <a:ext cx="79250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79250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38080" y="160020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27240" y="160020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160020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 flipV="1">
            <a:off x="2590920" y="159984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38280" y="3886200"/>
            <a:ext cx="327672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Semi-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as abov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class.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3"/>
              </a:rPr>
              <a:t>unl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4"/>
              </a:rPr>
              <a:t>.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5"/>
              </a:rPr>
              <a:t>edu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6"/>
              </a:rPr>
              <a:t>/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7"/>
              </a:rPr>
              <a:t>psycrs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8"/>
              </a:rPr>
              <a:t>/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9"/>
              </a:rPr>
              <a:t>statpage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0"/>
              </a:rPr>
              <a:t>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CR x age) given group, CR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 contro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-31212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-31212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20720" y="1600200"/>
          <a:ext cx="590256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600200"/>
                    <a:ext cx="5902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 flipV="1">
            <a:off x="1371600" y="18284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14400" y="297180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un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solely on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</a:t>
            </a:r>
            <a:r>
              <a:rPr b="0" lang="en-GB" sz="14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Academia.edu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ff00ff"/>
                </a:solidFill>
                <a:uFillTx/>
                <a:latin typeface="Verdana"/>
                <a:hlinkClick r:id="rId3"/>
              </a:rPr>
              <a:t>http://independent.academia.edu/JohnFHall/Ta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 and complex designs including analysis of co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7622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Administrator</cp:lastModifiedBy>
  <dcterms:modified xsi:type="dcterms:W3CDTF">2009-10-15T13:04:41Z</dcterms:modified>
  <cp:revision>280</cp:revision>
  <dc:subject/>
  <dc:title>REGRESSION ANALYSIS</dc:title>
</cp:coreProperties>
</file>